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BA69B-096A-4BB5-A369-8D757B64E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9BEA8-0C69-4D30-A6ED-37EF63A46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E2D27-21A4-4793-87A2-322D0DBC6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0DA37-F036-43B1-B9A5-641DDB408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3DC03-195E-4046-920C-3E43F12C5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3AC40-90FF-4D90-8401-903B91F53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11F76-6622-4750-B650-8C5421CEC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EB6F9-6B8F-47F1-A338-4F2471C03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265BE-551C-42ED-B687-CED024662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75534-1803-4E30-96FA-805CFD280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3C18F-22EA-4A3A-9E0A-37BE3B1E7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E06BB-C458-4BDC-BACA-66F242C47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F855-4382-4CA2-A89E-1B6C004EF9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ing Position in Mexico</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legio Madison is searching for native English speaking teachers who are willing to work in Mexico.</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4" name="" descr=""/>
          <p:cNvPicPr/>
          <p:nvPr/>
        </p:nvPicPr>
        <p:blipFill>
          <a:blip r:embed="rId1"/>
          <a:stretch/>
        </p:blipFill>
        <p:spPr>
          <a:xfrm>
            <a:off x="457200" y="1531800"/>
            <a:ext cx="4038480" cy="384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 are looking for teachers to come and work in an immersion program for kinder, primary and jr. high. We are expecting teachers to stay in Mexico for at least one year. We offer a good salary, a furnished house, maid service, a competitive working environment, courses in education, and Spanish classes in order to learn the language. </a:t>
            </a:r>
            <a:endParaRPr b="0" lang="en-US" sz="3200" spc="-1" strike="noStrike">
              <a:solidFill>
                <a:srgbClr val="000000"/>
              </a:solidFill>
              <a:latin typeface="Arial"/>
            </a:endParaRPr>
          </a:p>
        </p:txBody>
      </p:sp>
      <p:pic>
        <p:nvPicPr>
          <p:cNvPr id="47" name="" descr=""/>
          <p:cNvPicPr/>
          <p:nvPr/>
        </p:nvPicPr>
        <p:blipFill>
          <a:blip r:embed="rId1"/>
          <a:stretch/>
        </p:blipFill>
        <p:spPr>
          <a:xfrm>
            <a:off x="1295280" y="380880"/>
            <a:ext cx="6191280" cy="10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51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school work with the International Baccalaureate philosophy. This year were in the I.B.O process for approval and hope the following school year have it in this organization. This I.B.O. requires us to have an international team of teachers working in the school. The teachers work with a constructivist approach; they develop research projects using investigation with the students. </a:t>
            </a:r>
            <a:endParaRPr b="0" lang="en-US" sz="3200" spc="-1" strike="noStrike">
              <a:solidFill>
                <a:srgbClr val="000000"/>
              </a:solidFill>
              <a:latin typeface="Arial"/>
            </a:endParaRPr>
          </a:p>
        </p:txBody>
      </p:sp>
      <p:pic>
        <p:nvPicPr>
          <p:cNvPr id="50" name="" descr=""/>
          <p:cNvPicPr/>
          <p:nvPr/>
        </p:nvPicPr>
        <p:blipFill>
          <a:blip r:embed="rId1"/>
          <a:stretch/>
        </p:blipFill>
        <p:spPr>
          <a:xfrm>
            <a:off x="3809880" y="380880"/>
            <a:ext cx="1152720" cy="111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380880" y="5335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schools work with 100% English in kindergarten, 80% English in 1st and 2nd grade and from 3rd to 9th grade 50% of the time is taught in English, the other 50% in Spanish. </a:t>
            </a:r>
            <a:endParaRPr b="0" lang="en-US" sz="3200" spc="-1" strike="noStrike">
              <a:solidFill>
                <a:srgbClr val="000000"/>
              </a:solidFill>
              <a:latin typeface="Arial"/>
            </a:endParaRPr>
          </a:p>
        </p:txBody>
      </p:sp>
      <p:pic>
        <p:nvPicPr>
          <p:cNvPr id="53" name="" descr=""/>
          <p:cNvPicPr/>
          <p:nvPr/>
        </p:nvPicPr>
        <p:blipFill>
          <a:blip r:embed="rId1"/>
          <a:stretch/>
        </p:blipFill>
        <p:spPr>
          <a:xfrm>
            <a:off x="3886200" y="3276720"/>
            <a:ext cx="4095720" cy="266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ssion of the Colegio Bilingüe Madison is to develop students with psychomotor, affective and cognitive skills. These skills allow them to use the critical, and rational thinking to develop a solid awareness of their valu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kind of education will help them have a better life as agents of change according to their respective a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hool, through the option of education at an international academic level, seeks to have a positive influence in the educational and cultural scenario of its community, state and count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and So and So and So.</a:t>
            </a:r>
            <a:endParaRPr b="0" lang="en-US" sz="3200" spc="-1" strike="noStrike">
              <a:solidFill>
                <a:srgbClr val="000000"/>
              </a:solidFill>
              <a:latin typeface="Arial"/>
            </a:endParaRPr>
          </a:p>
        </p:txBody>
      </p:sp>
      <p:pic>
        <p:nvPicPr>
          <p:cNvPr id="58" name="" descr=""/>
          <p:cNvPicPr/>
          <p:nvPr/>
        </p:nvPicPr>
        <p:blipFill>
          <a:blip r:embed="rId1"/>
          <a:stretch/>
        </p:blipFill>
        <p:spPr>
          <a:xfrm>
            <a:off x="3352680" y="2819520"/>
            <a:ext cx="273708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ask</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imagine you want this job (who would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s of knowledge, skills and attitudes are expected by this language scho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rengths do you have for this pos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need to work on to prepare yourself for this posi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05:22:03Z</dcterms:created>
  <dc:creator>College of Education</dc:creator>
  <dc:description/>
  <dc:language>en-US</dc:language>
  <cp:lastModifiedBy>College of Education</cp:lastModifiedBy>
  <dcterms:modified xsi:type="dcterms:W3CDTF">2005-07-04T02:08:39Z</dcterms:modified>
  <cp:revision>8</cp:revision>
  <dc:subject/>
  <dc:title>Teaching Position in Mexico</dc:title>
</cp:coreProperties>
</file>